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08A-2642-428B-8F96-C8BF05D1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A74-FEB1-46FD-A7A9-BBFC9BB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887CC-02C8-4DC0-A605-1D0E25E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F4EFB-135F-4542-B333-EA3B782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88B1F-1CD9-4497-9D5C-5C65F250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E75E4-1B5E-46B6-8832-441DD52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2A300-1748-4B14-9AB6-618DF53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EBD02-60B4-4DFF-AB59-D5DDE7E3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A292F-AFBD-4335-A22A-7909609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BD081-08C7-4D58-97F8-E884CB93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7ECF2-98F5-461F-BFD8-71F80F36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F474EF-A64A-461C-86FD-CD3E964E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5BD-2A7E-4DA5-B227-C7A12A46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A51BF-455D-4220-AA79-2E4FFF7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F9BDA2-8023-4453-9A6F-5698D68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3D3E0A-BEAD-4170-B490-8C002140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BB374-7F7B-4385-A5BE-16E77BDB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61C636-FE2E-497A-8A09-925CCB0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1F8BD9-1B23-4FC9-A01E-50B4DF3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18E1E6-BC69-44C1-9DBA-693DCDC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5BD811-7A2C-479F-B29D-418BC1E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61D847-B8A9-4D96-BA8F-5711A29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A9DAD-867B-4A32-8261-C904468C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EB0-1CF5-42FF-A443-6636E654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195876-7047-4C0F-B2EA-91BF83B6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9EED-CA99-491F-917E-551BBA7F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76EB-7F9E-4918-8D43-CBE1575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F26A-2080-4A26-94E5-DA8542C9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4F8-5227-4502-B69D-22DBB5EE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CE34-2A5C-455F-AB02-112132A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7812-1C6C-4164-913D-907F6F4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C1D0-3EC1-4F3E-B2D5-BCDC204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D55-78BF-4F9F-98B9-E9A9338C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D186-7F73-4573-A29F-54BEC37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2D6-581B-47FA-94AD-03DC22F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0445-983B-4A6F-BFC1-8261019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D273-D62A-429D-AD41-09FBBF6D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D011-0967-414A-9C2B-D33324B2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99C7-EAE7-41BE-B471-22B1776D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5BE5-8B5E-449E-B1B7-74ABD1F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77C8-60CF-4352-9BF4-0AB3DA1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8093-59C3-4E2F-8CC5-554582A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383D-98B2-435E-8615-E31B7E7F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C96-71E0-4E85-ACA1-F0BD1D5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9661-CC02-40B0-83B4-61B34D5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0694-748E-4E29-9553-655E25D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1E88-313E-4EF1-A1A1-2DF8803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D964-01F9-4916-B869-A3D8C4B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F2AF-C70B-4CC3-95CE-1BB71D1C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9B6B-2337-4D1C-831B-6B66815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7395-257A-4A5E-BA12-F9A2A99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13C1-9F0E-401D-AD9F-009F0D73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902F-E85A-48AB-B3C6-EB4EAD2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1C09-4A1C-42C1-ABAE-21594D9D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DF7-4573-4501-A336-FACA1C1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17E2-E5BF-4C23-A42E-4DE3636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9B8A-25C3-423B-867B-6BDFC229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B97E-C1C8-4596-A2AE-F227FB2E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1345-3045-439C-B203-97E9743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9EE9-B8A2-4DE9-98AC-80CA0FA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492B-FC36-4D99-9386-AEAD208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F879-914C-47DC-B267-646E7B48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1E7F-853B-46B2-8758-7611B503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1D7E-DBA6-41C2-8243-D02FC08A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60C4-3F16-47FD-A727-046FA0DB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B7F-1C62-4F9E-A2BB-9373CDB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0E6C-5ACC-48D0-A457-DE689E6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0988-299A-4B00-B644-B05F0DCB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A97EE-C029-4B2B-8476-CF53762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1AAC2-19A6-40F4-AFD2-497A669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A9A6-EEAF-4C66-893C-712B6460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BC83-951B-44E6-8935-0D5FA61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1962-5E11-4716-A9AF-97ACD69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C1E6-CD9A-42FA-A643-61628E0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4E19-4908-4707-B942-6A36AD46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4238-7EA2-4C02-AD0A-1ECED451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B7B-4D07-4CDD-8011-900F45D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56086-848C-4F50-94BD-DE486D4F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6AA1D-AA40-48C1-92B9-8D02196D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7833-FC83-4BBC-B6F8-270F1E8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E011-9591-4743-9318-5FCC7DFC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09195-864E-4518-94BC-40CAB57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4DB44-B041-48EA-8CE5-F58E4B4E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06515-D190-43FE-82CE-976C03F0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592E9-C72E-403C-9BC3-B74A6F7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90F7-4B0A-43C8-A169-2CB70480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7F6E-2F42-4300-8FF8-C700675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425-993B-44B6-A810-4F611BE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6086-B81B-46F4-981A-466751EC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4BB5-747E-4524-BF97-B9A31ED2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C36E-6629-4A22-AD75-C4C9A50B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B93D-1572-4C59-A3EE-6087DD0B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0355A-5C5B-40DA-8425-57852E2A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AB32-0CCB-43F5-B877-4829C46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E2D7-929F-40AE-8E6E-5BFD3C0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CEB6-62F3-42BE-81B6-E6B122C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2E16-492C-49A6-87A4-1B90CB47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1F09-1CBC-4C8D-9D36-1E3E696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AFC-D2ED-4DEC-A56C-5D8024F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1241-476A-48CF-88BE-9617AA1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9AB0-83CD-4DC3-8D2E-88716C4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27020-3F11-4443-977A-4E7917CF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71AD-3CB6-4488-AB73-CD1604B0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13B4E-6786-42C0-946A-1416D590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29D77-8230-4D85-93C7-C00DBAD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68E2-7D64-4B11-A11F-6B9A0AE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49E2-89CA-4826-BE00-B9A09A2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A3772-1760-4B53-BD9D-0AD9F587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283A-1A06-456A-928A-927D0C2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2BD-121F-4DEC-87D7-DDEC09B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D6AC-0C6D-42E7-9531-6FE9AA32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478C7-2730-4C96-8C61-16D6E7D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1B8A-A231-418B-8F82-6FB7579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85EBA-B295-4CB3-A4E6-886F021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9162-D707-467F-9CAA-B736DE51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694D-1883-48FE-BB19-6F31B132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762A3-3384-4340-8A5F-1E04CC4A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46DAD-F79F-4551-9687-54D6CF79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90495-1A25-4C1A-BF72-9F39CAE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60F81-97D3-4C8A-BD04-E3C9AD3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78A-AA45-4D0A-AE82-353F96ADB7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06B-9A82-4A8A-BB9D-0585524BE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470-F4BB-428D-8EDD-58FDB8C920B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6F7-4EFA-4569-934E-AAB09F8E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A45-75DD-4052-93FE-CE27AD79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E71-7442-4226-9693-B7A6BB662E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4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D02-DFBB-41FB-AD3A-4DF306B01C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EC4-D014-49F7-943B-CD3464680A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9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8115-08FB-419B-82CF-1275267F8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4626-2107-463A-90BB-56481FE91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ermi.jhuapl.edu/states/avhrr/MA_213.n14.96sep30_1810.gi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553080" y="4567320"/>
            <a:ext cx="25909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lan Hen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October 17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09480" y="1066680"/>
            <a:ext cx="83059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7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ssachuset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609840" cy="4795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0" y="5334120"/>
            <a:ext cx="4495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achusetts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25/2011, 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apital: Bos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opulation: 6,349097 ( as of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ntered to Union: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state, Feb.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17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tto: By the sword we seek peace, but peace only under lib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ickname: Bay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lower: May f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ird: Black Capped Chickad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ng: All Hail to Massachuse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eaning: named after an Algonquin Indian. Word that means “a big hill plac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eather: Average temp. 51 degrees 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tate Dessert: Boston Cream P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0" t="4307" r="2704" b="0"/>
          <a:stretch/>
        </p:blipFill>
        <p:spPr>
          <a:xfrm>
            <a:off x="0" y="533520"/>
            <a:ext cx="4648320" cy="31654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30760" y="4572000"/>
            <a:ext cx="46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ssachuset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8th, 2011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rmi.jhuapl.edu/states/ma_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pi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24280" y="1676520"/>
            <a:ext cx="47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achusetts’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" descr="Massachusetts: Map and State Flag"/>
          <p:cNvPicPr/>
          <p:nvPr/>
        </p:nvPicPr>
        <p:blipFill>
          <a:blip r:embed="rId1"/>
          <a:srcRect l="0" t="0" r="0" b="48486"/>
          <a:stretch/>
        </p:blipFill>
        <p:spPr>
          <a:xfrm>
            <a:off x="1219320" y="228600"/>
            <a:ext cx="7076880" cy="43848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981080" y="5029200"/>
            <a:ext cx="556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,, Quick Facts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http://bensguide.gpo.gov/3-5/state/massachuset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762120" y="68580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37160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F. Kennedy was born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6216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25/2011, http://www.postcardsfrom.com/t1/971104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0" y="0"/>
            <a:ext cx="4952880" cy="35146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4114800" y="3554280"/>
            <a:ext cx="4876920" cy="33037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5181480" y="2286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Cape Cod, which is on the shore of Massachuset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38680" y="2971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Boston, it’s Massachusetts state cap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28600" y="4495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25/2011, http://www.postcardsfrom.com/t1/971104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7T13:38:45Z</dcterms:modified>
  <cp:revision>15</cp:revision>
  <dc:subject/>
  <dc:title>Slide 1</dc:title>
</cp:coreProperties>
</file>